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15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1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5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5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9.xml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15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9.xml"/><Relationship Id="rId12" Type="http://schemas.openxmlformats.org/officeDocument/2006/relationships/slide" Target="slide21.xml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5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1.xml"/><Relationship Id="rId14" Type="http://schemas.openxmlformats.org/officeDocument/2006/relationships/slide" Target="slide22.xml"/><Relationship Id="rId1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1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15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9.xml"/><Relationship Id="rId16" Type="http://schemas.openxmlformats.org/officeDocument/2006/relationships/slide" Target="slide21.xml"/><Relationship Id="rId17" Type="http://schemas.openxmlformats.org/officeDocument/2006/relationships/slide" Target="slide22.xml"/><Relationship Id="rId18" Type="http://schemas.openxmlformats.org/officeDocument/2006/relationships/slide" Target="slide23.xml"/><Relationship Id="rId1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5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9.xml"/><Relationship Id="rId11" Type="http://schemas.openxmlformats.org/officeDocument/2006/relationships/slide" Target="slide21.xml"/><Relationship Id="rId12" Type="http://schemas.openxmlformats.org/officeDocument/2006/relationships/slide" Target="slide22.xml"/><Relationship Id="rId13" Type="http://schemas.openxmlformats.org/officeDocument/2006/relationships/slide" Target="slide23.xml"/><Relationship Id="rId1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1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9.xml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rela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(zu viel Plasma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bso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ythrozytenzahl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09000" y="549360"/>
            <a:ext cx="20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rythrozytenzahl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5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5" idx="3"/>
            <a:endCxn id="156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seudo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regenerat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kute 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der 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18080" y="549360"/>
            <a:ext cx="58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rythrozytenzahl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seudo-aregenerative A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regenerat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Ursache 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nochenmar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xtramedullä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59" idx="3"/>
            <a:endCxn id="16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3" name=""/>
          <p:cNvCxnSpPr>
            <a:stCxn id="159" idx="3"/>
            <a:endCxn id="16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1037160" y="549360"/>
            <a:ext cx="643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rythrozytenzahl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regenerative A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sache 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nochenmar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37160" y="549360"/>
            <a:ext cx="643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rythrozytenzahl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Ursache im Knochenmar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erythrozytä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Reih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11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6" idx="3"/>
            <a:endCxn id="16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1" name=""/>
          <p:cNvCxnSpPr>
            <a:endCxn id="16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rythrozytä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Reih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06200" y="549360"/>
            <a:ext cx="682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rythrozytenzahl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regenerativ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regenerative A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Ursache im Knochenmark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erythrozytäre Reihe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3" idx="3"/>
            <a:endCxn id="17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eLV-C-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tikörper ge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rythrozyten-Vorläuferzell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 Chloramphenico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v. a. Katze)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2000" y="6153480"/>
            <a:ext cx="366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eLV-C = felines Leukämievirus Typ C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53000" y="549360"/>
            <a:ext cx="69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rythrozytenzahl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Ursache im Knochenmark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9" idx="3"/>
            <a:endCxn id="18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Sulfonam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 Östr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v. a. Hund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3800" y="639684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tramedullä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37160" y="549360"/>
            <a:ext cx="643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rythrozytenzahl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xtramedulläre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PO-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Vitamin-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purenelement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5" idx="3"/>
            <a:endCxn id="18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0" name=""/>
          <p:cNvCxnSpPr>
            <a:stCxn id="185" idx="3"/>
            <a:endCxn id="18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1" name=""/>
          <p:cNvSpPr/>
          <p:nvPr/>
        </p:nvSpPr>
        <p:spPr>
          <a:xfrm>
            <a:off x="254160" y="6396840"/>
            <a:ext cx="20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PO = Erythropoeti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PO-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14480" y="549360"/>
            <a:ext cx="66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rythrozytenzahl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xtramedullär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PO-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3" idx="3"/>
            <a:endCxn id="197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8" name=""/>
          <p:cNvCxnSpPr>
            <a:stCxn id="193" idx="3"/>
            <a:endCxn id="19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7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4160" y="6396840"/>
            <a:ext cx="20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PO = Erythropoeti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  <a:endCxn id="203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4" name=""/>
          <p:cNvCxnSpPr>
            <a:stCxn id="201" idx="3"/>
            <a:endCxn id="205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oadreno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ortizis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thyre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14120" y="549360"/>
            <a:ext cx="685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rythrozytenzahl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xtramedullär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PO-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influss von 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4160" y="6396840"/>
            <a:ext cx="20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PO = Erythropoeti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itamin-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purenelement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209" idx="3"/>
            <a:endCxn id="211" idx="1"/>
          </p:cNvCxnSpPr>
          <p:nvPr/>
        </p:nvCxnSpPr>
        <p:spPr>
          <a:xfrm>
            <a:off x="3313080" y="4080960"/>
            <a:ext cx="2689920" cy="1351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12" name=""/>
          <p:cNvCxnSpPr>
            <a:stCxn id="209" idx="3"/>
            <a:endCxn id="213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14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isen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09" idx="3"/>
            <a:endCxn id="214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6012000" y="486900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tamin-B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tamin-B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37160" y="549360"/>
            <a:ext cx="643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rythrozytenzahl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xtramedullär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Vitamin-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purenelement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sen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iseneinba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ch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isen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8" idx="3"/>
            <a:endCxn id="21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22" name=""/>
          <p:cNvCxnSpPr>
            <a:stCxn id="218" idx="3"/>
            <a:endCxn id="22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1037160" y="549360"/>
            <a:ext cx="643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rythrozytenzahl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extramedullär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Vitamin-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Spurenelement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Eisen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6" idx="3"/>
            <a:endCxn id="107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la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u viel Plasma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atroge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hydrat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86040" y="549360"/>
            <a:ext cx="46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rythrozytenzahl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relativ (zu viel Plasma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6" idx="3"/>
            <a:endCxn id="227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seneinba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ämie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rankhei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0560" y="549360"/>
            <a:ext cx="68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rythrozytenzahl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xtramedullär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Vitamin-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purenelement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Eisen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törung des Eiseneinba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ch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sen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ise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0" idx="3"/>
            <a:endCxn id="233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4" name=""/>
          <p:cNvCxnSpPr>
            <a:stCxn id="230" idx="3"/>
            <a:endCxn id="23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35" name=""/>
          <p:cNvSpPr/>
          <p:nvPr/>
        </p:nvSpPr>
        <p:spPr>
          <a:xfrm>
            <a:off x="1037160" y="549360"/>
            <a:ext cx="643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rythrozytenzahl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xtramedullär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Vitamin-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purenelement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Eisen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echter Eisen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senaufnahm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beim Kleinti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relevant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8" idx="3"/>
            <a:endCxn id="23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se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33920" y="549360"/>
            <a:ext cx="652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rythrozytenzahl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extramedullär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Vitamin-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Spurenelement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Eisen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echter Eisen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Eise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gen-Darm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2" idx="3"/>
            <a:endCxn id="24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46" name=""/>
          <p:cNvCxnSpPr>
            <a:stCxn id="242" idx="3"/>
            <a:endCxn id="24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1033920" y="549360"/>
            <a:ext cx="652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rythrozytenzahl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extramedullär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Vitamin-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Spurenelement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5" action="ppaction://hlinksldjump"/>
              </a:rPr>
              <a:t>Eisen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6" action="ppaction://hlinksldjump"/>
              </a:rPr>
              <a:t>echter Eisen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7" action="ppaction://hlinksldjump"/>
              </a:rPr>
              <a:t>Eisen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8" action="ppaction://hlinksldjump"/>
              </a:rPr>
              <a:t>chronische 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gen-Darm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33920" y="549360"/>
            <a:ext cx="652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rythrozytenzahl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xtramedullär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Vitamin-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purenelement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Eisen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echter Eisen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Eisen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chronische Blut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lutung in den Magen-Darm-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9" idx="3"/>
            <a:endCxn id="25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lzer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ortale Hypertension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äsionensetzend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armparasit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6640" y="549360"/>
            <a:ext cx="6921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rythrozytenzahl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aregenerativ &gt; 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egenerative Anämie &gt; extramedulläre Ursache &gt; Vitamin-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purenelementmangel &gt; Eisenmangel &gt; echter Eisenmangel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isenverlust &gt; chronische Blutung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lutung in den 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54" idx="3"/>
            <a:endCxn id="25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eoplas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11" idx="3"/>
            <a:endCxn id="112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so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47520" y="549360"/>
            <a:ext cx="30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rythrozytenzahl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bso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genera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regenera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3"/>
            <a:endCxn id="11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9" name=""/>
          <p:cNvCxnSpPr>
            <a:stCxn id="115" idx="3"/>
            <a:endCxn id="11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973080" y="549360"/>
            <a:ext cx="40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rythrozytenzahl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genera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(Hämolys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2" idx="3"/>
            <a:endCxn id="125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6" name=""/>
          <p:cNvCxnSpPr>
            <a:stCxn id="122" idx="3"/>
            <a:endCxn id="12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1018080" y="549360"/>
            <a:ext cx="54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rythrozytenzahl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regenera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Blutung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Hämolys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x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in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9" idx="3"/>
            <a:endCxn id="13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3" name=""/>
          <p:cNvCxnSpPr>
            <a:stCxn id="129" idx="3"/>
            <a:endCxn id="13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1068840" y="549360"/>
            <a:ext cx="685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rythrozytenzahl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(Hämolys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8840" y="549360"/>
            <a:ext cx="685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rythrozytenzahl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(Hämolys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xtravasale 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6" idx="3"/>
            <a:endCxn id="13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Babes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utoimmunhämolytische A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nfektion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otrophen Mykoplasm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8840" y="549360"/>
            <a:ext cx="685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rythrozytenzahl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(Hämolys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intravasale 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1" idx="3"/>
            <a:endCxn id="14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upferintoxik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Bedlington-Terrier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wendung ein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lysmas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itungswass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v. a. Katz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ophosphat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bei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iabetischer Ketoazidos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chwerer Verlauf ei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utoimmunhämolytis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chwerer Verlau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iner Babes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640" y="6153480"/>
            <a:ext cx="197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regenera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seudo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regenerat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chte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regenerat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7" idx="3"/>
            <a:endCxn id="14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1" name=""/>
          <p:cNvCxnSpPr>
            <a:stCxn id="147" idx="3"/>
            <a:endCxn id="14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1018440" y="549360"/>
            <a:ext cx="56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rythrozytenzahl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regenera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7:34:39Z</dcterms:modified>
  <cp:revision>340</cp:revision>
  <dc:subject/>
  <dc:title>Vorstellung einer Neuheit</dc:title>
</cp:coreProperties>
</file>